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FANFAR1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2A6-6C99-4361-850C-531CBB9A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D76-E381-4FD8-B7AE-EB92542A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552-E23F-438B-A9A8-96ADD5A3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85A-C1D5-454B-845A-02628F1C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971-CC92-4B0A-92D3-F08AEB1C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934-82F8-4453-BB4A-7750FFFB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495-7E59-4DC3-A548-54B0D13E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B99-B8EF-4B49-BE9D-2E82CCAD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297-D13A-4B7B-AA4F-2CC4CC98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A6D-4CAC-424A-8E44-D2157CD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D5A-4DD6-444B-825F-BD38987C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65F-AFE1-47CB-8D95-A7F246E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C47-08A3-4126-B022-D8A983B2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FANFAR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FANFAR1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752480"/>
            <a:ext cx="5143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Birthday Baske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or Ti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2192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NFA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2192400" cy="238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81080" y="1447920"/>
            <a:ext cx="5143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ep Practic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djectiv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NFA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2192400" cy="23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443232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228600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my birthday! My brain is full of adjectives that describe how I feel.  Can you find the ad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562400" cy="169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0400" y="3809880"/>
            <a:ext cx="4952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my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birthday breakfa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had three brightly colored doughnu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2400" y="30492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3480" y="990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895480" y="762120"/>
            <a:ext cx="1295640" cy="127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809880" y="838080"/>
            <a:ext cx="1371600" cy="103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9800" y="17524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lo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47920" y="2057400"/>
            <a:ext cx="3657600" cy="1099800"/>
            <a:chOff x="1447920" y="2057400"/>
            <a:chExt cx="3657600" cy="1099800"/>
          </a:xfrm>
        </p:grpSpPr>
        <p:sp>
          <p:nvSpPr>
            <p:cNvPr id="55" name=""/>
            <p:cNvSpPr/>
            <p:nvPr/>
          </p:nvSpPr>
          <p:spPr>
            <a:xfrm>
              <a:off x="1447920" y="25146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brightl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2057400"/>
              <a:ext cx="1905120" cy="685800"/>
            </a:xfrm>
            <a:prstGeom prst="wedgeEllipseCallout">
              <a:avLst>
                <a:gd name="adj1" fmla="val -50500"/>
                <a:gd name="adj2" fmla="val 557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ve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1562040" cy="169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3733920" cy="21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962520"/>
            <a:ext cx="495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ther made an enormous chocolate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birth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ak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5040" y="6858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or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6120" y="13716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040" y="220968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562400" cy="169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43200" y="3657600"/>
            <a:ext cx="5105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kitchen table there was a 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fru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bask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ith a large pink box in it instead of t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ru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2760" y="6858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3120" y="13716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400" y="26668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76720" y="990720"/>
            <a:ext cx="1496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2176560" cy="236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71800" y="3733920"/>
            <a:ext cx="4952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ther said the pink box was for the exciting </a:t>
            </a:r>
            <a:r>
              <a:rPr b="1" lang="en-US" sz="4400" spc="-1" strike="noStrike">
                <a:solidFill>
                  <a:srgbClr val="66ffff"/>
                </a:solidFill>
                <a:latin typeface="Times New Roman"/>
              </a:rPr>
              <a:t>part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planned  for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4680" y="9144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6120" y="16002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5624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3809880"/>
            <a:ext cx="5257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was a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Times New Roman"/>
              </a:rPr>
              <a:t>secret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ide of the large pink box .  I am an excited little gir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3840" y="6858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13716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3840" y="266688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76720" y="990720"/>
            <a:ext cx="1496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24280" y="3505320"/>
            <a:ext cx="4114800" cy="33526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3581280" cy="655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1523880"/>
            <a:ext cx="2209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y surpri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g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is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933960" cy="655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71800" y="1447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se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666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5040" y="25909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3960" y="3429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5400" y="35053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8000" y="44197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9960" y="4419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7:09:45Z</dcterms:created>
  <dc:creator>Donna Dintelman</dc:creator>
  <dc:description/>
  <dc:language>en-US</dc:language>
  <cp:lastModifiedBy>Karen</cp:lastModifiedBy>
  <dcterms:modified xsi:type="dcterms:W3CDTF">2008-07-06T00:51:15Z</dcterms:modified>
  <cp:revision>14</cp:revision>
  <dc:subject/>
  <dc:title>PowerPoint Presentation</dc:title>
</cp:coreProperties>
</file>